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5.png" ContentType="image/png"/>
  <Override PartName="/ppt/media/image14.wmf" ContentType="image/x-wmf"/>
  <Override PartName="/ppt/media/image4.wmf" ContentType="image/x-wmf"/>
  <Override PartName="/ppt/media/image2.jpeg" ContentType="image/jpeg"/>
  <Override PartName="/ppt/media/image11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.jpeg" ContentType="image/jpeg"/>
  <Override PartName="/ppt/media/image7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4B64F-570D-4BCA-A52F-E8399FA126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3C86F-1567-4E3A-8B9F-B986181B7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s C 1-D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7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r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47AC8-FBD0-45BA-9A1F-6B28025398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s C 1-D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7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r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4B176-EC42-44A7-B94F-01C93C2553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B6875-6E04-4218-8031-7FD5CE9A9D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B8E3D-95F8-4416-870E-C4CD6D3A5B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E7289-6406-40F0-A592-607A338BC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BA118-2BF5-400E-AE48-E695536DC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6E372-3229-49B4-926B-F50E06150D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C4BD1-F63E-49DF-AC74-B368824B51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EA392-CCC5-47F3-AC27-330E243C34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C99A7-793A-47D7-8F51-0BC016308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B60A6-A363-4CF7-A319-83E8ACE57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5879E-B41B-458F-9E22-4430030C1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EE3E9-A861-4D0E-A9AA-5F6061F6B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9E56-7BF4-42A3-837C-6F75BBEFC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B00A7-CF04-4DF1-9B66-B34A49B99A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9E6D3-9F22-407D-B847-9D3D645287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7C7B-2912-489E-9E53-97F3F976FB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21863-6787-45CE-B70E-8D6B5D7D1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19AA7-6974-40AC-A3D4-8378548DE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24B77-077D-45AB-B3E5-685C87B8C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20A3B-4C90-4B86-907E-6E4F56C0F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DD0CF-CDDE-4CD6-B38F-134B03C9C6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92023-CCDA-489B-A68B-6CC74FF15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64A43-69A4-461F-9F48-5765A7386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727D1-B958-4CCC-9EA3-BB3CF2D2AC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93A0-6570-458F-B789-717B4C7D5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CC70-631A-47E4-8D2A-D11220A36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9F98-54CE-4169-92F8-B4D921CC7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BB0B-A2ED-4AF8-B35A-C595AE54E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014B-E7B3-4851-878B-ECBBA9D9C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63EA-F8DE-476D-89FF-0703811FF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4A86-D9A9-47BF-8611-807E82D7F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E9AD-3C60-46AD-BE03-BD607A9D9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D7A9-6978-4F63-B404-4D9559E92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EDA6-74F6-4B24-9731-58FE9407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2FB4-9419-491E-8244-721D1832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E063-3E5C-4F68-A988-9F407497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B9025-EEAA-4374-81B9-62AD93871B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5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9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0.wmf"/><Relationship Id="rId8" Type="http://schemas.openxmlformats.org/officeDocument/2006/relationships/package" Target="../embeddings/oleObject4.xlsx"/><Relationship Id="rId9" Type="http://schemas.openxmlformats.org/officeDocument/2006/relationships/image" Target="../media/image11.wmf"/><Relationship Id="rId10" Type="http://schemas.openxmlformats.org/officeDocument/2006/relationships/package" Target="../embeddings/oleObject5.xlsx"/><Relationship Id="rId11" Type="http://schemas.openxmlformats.org/officeDocument/2006/relationships/image" Target="../media/image12.wmf"/><Relationship Id="rId12" Type="http://schemas.openxmlformats.org/officeDocument/2006/relationships/package" Target="../embeddings/oleObject6.xlsx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1447920" y="9144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inematic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-  (describ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ings mo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85800" y="2133720"/>
          <a:ext cx="7772400" cy="422748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lar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o direction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tor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w/ directio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lacemen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e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locity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lera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Text Box 32"/>
          <p:cNvSpPr/>
          <p:nvPr/>
        </p:nvSpPr>
        <p:spPr>
          <a:xfrm>
            <a:off x="990720" y="289548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4"/>
          <p:cNvSpPr/>
          <p:nvPr/>
        </p:nvSpPr>
        <p:spPr>
          <a:xfrm>
            <a:off x="1600200" y="335268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far you tra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6"/>
          <p:cNvSpPr/>
          <p:nvPr/>
        </p:nvSpPr>
        <p:spPr>
          <a:xfrm>
            <a:off x="4648320" y="3124080"/>
            <a:ext cx="365760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han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How far you travel in a given dire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40"/>
          <p:cNvSpPr/>
          <p:nvPr/>
        </p:nvSpPr>
        <p:spPr>
          <a:xfrm>
            <a:off x="1523880" y="48006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fast you tra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2"/>
          <p:cNvSpPr/>
          <p:nvPr/>
        </p:nvSpPr>
        <p:spPr>
          <a:xfrm>
            <a:off x="4648320" y="4724280"/>
            <a:ext cx="373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fast you travel (in a given dire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4"/>
          <p:cNvSpPr/>
          <p:nvPr/>
        </p:nvSpPr>
        <p:spPr>
          <a:xfrm>
            <a:off x="5029200" y="58672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ate of chan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velo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mple problem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 motorist drives north at 20 m/s for 20 km and then continues north at 30 m/s for another 20 km. What is his average velocit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mple problem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t takes the motorist one minute to change his speed from 20 m/s to 30 m/s. What is his average accelerat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143000" y="6094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ical Representation of 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762120" y="152388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inematics Relationships Through Graph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685800" y="220968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   The slope of a d-t graph at any time tells you the av. velocity of  the obje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685800" y="2971800"/>
            <a:ext cx="75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  The slope of a v-t graph at any time tells you the av.            acceleration of the obje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685800" y="3733920"/>
            <a:ext cx="75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rea under a v-t graph tells you the displacement of the object during that 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685800" y="4495680"/>
            <a:ext cx="72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  The area under a a-t graph tells you the change in velocity of the object during that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1676520" y="1143000"/>
            <a:ext cx="5397480" cy="8510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1"/>
          <p:cNvSpPr/>
          <p:nvPr/>
        </p:nvSpPr>
        <p:spPr>
          <a:xfrm>
            <a:off x="1295280" y="53352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 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Object 13"/>
          <p:cNvGraphicFramePr/>
          <p:nvPr/>
        </p:nvGraphicFramePr>
        <p:xfrm>
          <a:off x="762120" y="2133720"/>
          <a:ext cx="2514600" cy="1834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Objec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2133720"/>
                    <a:ext cx="2514600" cy="18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Line 14"/>
          <p:cNvSpPr/>
          <p:nvPr/>
        </p:nvSpPr>
        <p:spPr>
          <a:xfrm flipV="1">
            <a:off x="1066680" y="2514240"/>
            <a:ext cx="175284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Object 15"/>
          <p:cNvGraphicFramePr/>
          <p:nvPr/>
        </p:nvGraphicFramePr>
        <p:xfrm>
          <a:off x="3429000" y="2133720"/>
          <a:ext cx="2514600" cy="18349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3" name="Object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429000" y="2133720"/>
                    <a:ext cx="2514600" cy="18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Line 16"/>
          <p:cNvSpPr/>
          <p:nvPr/>
        </p:nvSpPr>
        <p:spPr>
          <a:xfrm>
            <a:off x="3733920" y="2971800"/>
            <a:ext cx="1752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Object 17"/>
          <p:cNvGraphicFramePr/>
          <p:nvPr/>
        </p:nvGraphicFramePr>
        <p:xfrm>
          <a:off x="6095880" y="2133720"/>
          <a:ext cx="2514600" cy="18349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6" name="Object 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95880" y="2133720"/>
                    <a:ext cx="2514600" cy="18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Line 18"/>
          <p:cNvSpPr/>
          <p:nvPr/>
        </p:nvSpPr>
        <p:spPr>
          <a:xfrm>
            <a:off x="6400800" y="3657600"/>
            <a:ext cx="1752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9"/>
          <p:cNvSpPr/>
          <p:nvPr/>
        </p:nvSpPr>
        <p:spPr>
          <a:xfrm>
            <a:off x="762120" y="4191120"/>
            <a:ext cx="243828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d-t graph at any point in time …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∆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20"/>
          <p:cNvSpPr/>
          <p:nvPr/>
        </p:nvSpPr>
        <p:spPr>
          <a:xfrm>
            <a:off x="838080" y="4800600"/>
            <a:ext cx="236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0 - 0)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5 - 0)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21"/>
          <p:cNvSpPr/>
          <p:nvPr/>
        </p:nvSpPr>
        <p:spPr>
          <a:xfrm>
            <a:off x="838080" y="5181480"/>
            <a:ext cx="13716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m/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22"/>
          <p:cNvSpPr/>
          <p:nvPr/>
        </p:nvSpPr>
        <p:spPr>
          <a:xfrm>
            <a:off x="762120" y="5562720"/>
            <a:ext cx="2590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lope is constant on this graph so the velocity is 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23"/>
          <p:cNvSpPr/>
          <p:nvPr/>
        </p:nvSpPr>
        <p:spPr>
          <a:xfrm>
            <a:off x="3505320" y="4191120"/>
            <a:ext cx="22860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v-t graph at any point in time…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- v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24"/>
          <p:cNvSpPr/>
          <p:nvPr/>
        </p:nvSpPr>
        <p:spPr>
          <a:xfrm>
            <a:off x="3505320" y="4648320"/>
            <a:ext cx="2361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- 10)m/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5 - 0)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25"/>
          <p:cNvSpPr/>
          <p:nvPr/>
        </p:nvSpPr>
        <p:spPr>
          <a:xfrm>
            <a:off x="3505320" y="5029200"/>
            <a:ext cx="13716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 m/s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6"/>
          <p:cNvSpPr/>
          <p:nvPr/>
        </p:nvSpPr>
        <p:spPr>
          <a:xfrm>
            <a:off x="3505320" y="5410080"/>
            <a:ext cx="2590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ing at the area between the line and the x-axis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27"/>
          <p:cNvSpPr/>
          <p:nvPr/>
        </p:nvSpPr>
        <p:spPr>
          <a:xfrm>
            <a:off x="3733920" y="2971800"/>
            <a:ext cx="17524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28"/>
          <p:cNvSpPr/>
          <p:nvPr/>
        </p:nvSpPr>
        <p:spPr>
          <a:xfrm>
            <a:off x="3505320" y="5867280"/>
            <a:ext cx="259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rectangle = b x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3505320" y="6095880"/>
            <a:ext cx="25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= 5s x 10 m/s 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3505320" y="6400800"/>
            <a:ext cx="259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s of course displac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33"/>
          <p:cNvSpPr/>
          <p:nvPr/>
        </p:nvSpPr>
        <p:spPr>
          <a:xfrm>
            <a:off x="6172200" y="4267080"/>
            <a:ext cx="2590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a-t graph the area  between the line and the x-axis is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34"/>
          <p:cNvSpPr/>
          <p:nvPr/>
        </p:nvSpPr>
        <p:spPr>
          <a:xfrm>
            <a:off x="6172200" y="4800600"/>
            <a:ext cx="25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rectangle = b x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36"/>
          <p:cNvSpPr/>
          <p:nvPr/>
        </p:nvSpPr>
        <p:spPr>
          <a:xfrm>
            <a:off x="6172200" y="5105520"/>
            <a:ext cx="259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= 5s x 0 m/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 m/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37"/>
          <p:cNvSpPr/>
          <p:nvPr/>
        </p:nvSpPr>
        <p:spPr>
          <a:xfrm>
            <a:off x="6095880" y="5486400"/>
            <a:ext cx="25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ea thus represents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38"/>
          <p:cNvSpPr/>
          <p:nvPr/>
        </p:nvSpPr>
        <p:spPr>
          <a:xfrm>
            <a:off x="6172200" y="5791320"/>
            <a:ext cx="2743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39"/>
          <p:cNvSpPr/>
          <p:nvPr/>
        </p:nvSpPr>
        <p:spPr>
          <a:xfrm>
            <a:off x="6248520" y="6172200"/>
            <a:ext cx="259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in velo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1295280" y="53352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ing 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1600200" y="1219320"/>
            <a:ext cx="5676840" cy="850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Object 4"/>
          <p:cNvGraphicFramePr/>
          <p:nvPr/>
        </p:nvGraphicFramePr>
        <p:xfrm>
          <a:off x="609480" y="2362320"/>
          <a:ext cx="2590920" cy="1890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9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362320"/>
                    <a:ext cx="2590920" cy="18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5"/>
          <p:cNvGraphicFramePr/>
          <p:nvPr/>
        </p:nvGraphicFramePr>
        <p:xfrm>
          <a:off x="609480" y="2362320"/>
          <a:ext cx="2590920" cy="18907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61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9480" y="2362320"/>
                    <a:ext cx="2590920" cy="18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7"/>
          <p:cNvGraphicFramePr/>
          <p:nvPr/>
        </p:nvGraphicFramePr>
        <p:xfrm>
          <a:off x="3429000" y="2362320"/>
          <a:ext cx="2590920" cy="18907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63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429000" y="2362320"/>
                    <a:ext cx="2590920" cy="18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9"/>
          <p:cNvGraphicFramePr/>
          <p:nvPr/>
        </p:nvGraphicFramePr>
        <p:xfrm>
          <a:off x="3429000" y="2362320"/>
          <a:ext cx="2590920" cy="1890720"/>
        </p:xfrm>
        <a:graphic>
          <a:graphicData uri="http://schemas.openxmlformats.org/presentationml/2006/ole">
            <p:oleObj progId="Excel.Sheet.12" r:id="rId8" spid="">
              <p:embed/>
              <p:pic>
                <p:nvPicPr>
                  <p:cNvPr id="165" name="Object 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29000" y="2362320"/>
                    <a:ext cx="2590920" cy="18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10"/>
          <p:cNvGraphicFramePr/>
          <p:nvPr/>
        </p:nvGraphicFramePr>
        <p:xfrm>
          <a:off x="6248520" y="2362320"/>
          <a:ext cx="2590560" cy="1890720"/>
        </p:xfrm>
        <a:graphic>
          <a:graphicData uri="http://schemas.openxmlformats.org/presentationml/2006/ole">
            <p:oleObj progId="Excel.Sheet.12" r:id="rId10" spid="">
              <p:embed/>
              <p:pic>
                <p:nvPicPr>
                  <p:cNvPr id="167" name="Object 10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248520" y="2362320"/>
                    <a:ext cx="2590560" cy="18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Object 12"/>
          <p:cNvGraphicFramePr/>
          <p:nvPr/>
        </p:nvGraphicFramePr>
        <p:xfrm>
          <a:off x="6248520" y="2362320"/>
          <a:ext cx="2590560" cy="1892160"/>
        </p:xfrm>
        <a:graphic>
          <a:graphicData uri="http://schemas.openxmlformats.org/presentationml/2006/ole">
            <p:oleObj progId="Excel.Sheet.12" r:id="rId12" spid="">
              <p:embed/>
              <p:pic>
                <p:nvPicPr>
                  <p:cNvPr id="169" name="Object 12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248520" y="2362320"/>
                    <a:ext cx="259056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Text Box 16"/>
          <p:cNvSpPr/>
          <p:nvPr/>
        </p:nvSpPr>
        <p:spPr>
          <a:xfrm>
            <a:off x="609480" y="4343400"/>
            <a:ext cx="243864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d-t graph at any point in time …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∆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7"/>
          <p:cNvSpPr/>
          <p:nvPr/>
        </p:nvSpPr>
        <p:spPr>
          <a:xfrm>
            <a:off x="609480" y="4952880"/>
            <a:ext cx="2590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lope is constantly increasing on this graph so the velocity is increasing at a constant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8"/>
          <p:cNvSpPr/>
          <p:nvPr/>
        </p:nvSpPr>
        <p:spPr>
          <a:xfrm>
            <a:off x="609480" y="5715000"/>
            <a:ext cx="2590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lope of a tangent line drawn at a point on the curve will tell you the instantaneous velocity at this 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19"/>
          <p:cNvSpPr/>
          <p:nvPr/>
        </p:nvSpPr>
        <p:spPr>
          <a:xfrm flipH="1">
            <a:off x="1523160" y="2895480"/>
            <a:ext cx="1143000" cy="9144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20"/>
          <p:cNvSpPr/>
          <p:nvPr/>
        </p:nvSpPr>
        <p:spPr>
          <a:xfrm>
            <a:off x="3581280" y="4343400"/>
            <a:ext cx="22860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v-t graph at any point in time…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- v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21"/>
          <p:cNvSpPr/>
          <p:nvPr/>
        </p:nvSpPr>
        <p:spPr>
          <a:xfrm>
            <a:off x="3581280" y="4800600"/>
            <a:ext cx="236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 - 0)m/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5 - 0)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22"/>
          <p:cNvSpPr/>
          <p:nvPr/>
        </p:nvSpPr>
        <p:spPr>
          <a:xfrm>
            <a:off x="3581280" y="5105520"/>
            <a:ext cx="13716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m/s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23"/>
          <p:cNvSpPr/>
          <p:nvPr/>
        </p:nvSpPr>
        <p:spPr>
          <a:xfrm>
            <a:off x="3581280" y="5410080"/>
            <a:ext cx="2590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ing at the area between the line and the x-axis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24"/>
          <p:cNvSpPr/>
          <p:nvPr/>
        </p:nvSpPr>
        <p:spPr>
          <a:xfrm>
            <a:off x="3505320" y="5943600"/>
            <a:ext cx="259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triangle = 1/2 (b x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25"/>
          <p:cNvSpPr/>
          <p:nvPr/>
        </p:nvSpPr>
        <p:spPr>
          <a:xfrm>
            <a:off x="3505320" y="6172200"/>
            <a:ext cx="25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= 1/2 (5s x 20 m/s) 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26"/>
          <p:cNvSpPr/>
          <p:nvPr/>
        </p:nvSpPr>
        <p:spPr>
          <a:xfrm>
            <a:off x="3505320" y="6400800"/>
            <a:ext cx="259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s of course displac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27"/>
          <p:cNvSpPr/>
          <p:nvPr/>
        </p:nvSpPr>
        <p:spPr>
          <a:xfrm>
            <a:off x="6248520" y="4449600"/>
            <a:ext cx="2590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a-t graph the area  between the line and the x-axis is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28"/>
          <p:cNvSpPr/>
          <p:nvPr/>
        </p:nvSpPr>
        <p:spPr>
          <a:xfrm>
            <a:off x="6248520" y="4983120"/>
            <a:ext cx="259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rectangle = b x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29"/>
          <p:cNvSpPr/>
          <p:nvPr/>
        </p:nvSpPr>
        <p:spPr>
          <a:xfrm>
            <a:off x="6248520" y="5288040"/>
            <a:ext cx="25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= 5s x 4 m/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 m/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30"/>
          <p:cNvSpPr/>
          <p:nvPr/>
        </p:nvSpPr>
        <p:spPr>
          <a:xfrm>
            <a:off x="6172200" y="5668920"/>
            <a:ext cx="25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ea thus represents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31"/>
          <p:cNvSpPr/>
          <p:nvPr/>
        </p:nvSpPr>
        <p:spPr>
          <a:xfrm>
            <a:off x="6324480" y="6019920"/>
            <a:ext cx="25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in velo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32"/>
          <p:cNvSpPr/>
          <p:nvPr/>
        </p:nvSpPr>
        <p:spPr>
          <a:xfrm flipH="1">
            <a:off x="3809880" y="2819520"/>
            <a:ext cx="1828800" cy="114300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33"/>
          <p:cNvSpPr/>
          <p:nvPr/>
        </p:nvSpPr>
        <p:spPr>
          <a:xfrm>
            <a:off x="6553080" y="3200400"/>
            <a:ext cx="19051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304920" y="3049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762120" y="914400"/>
            <a:ext cx="761976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tudent is late for the school bus. She runs east down the road at 3 m/s for 30s, then thinks that she has dropped her calculator so stops for 10s to check. She jogs back west at 2 m/s for 10s, stops for 5 s then accelerates uniformly from rest to 4 m/s east over a 10 second period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tch the velocity-time graph of the student’s 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the total distance and displacement of the student during this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the student’s average velocity during this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Object 4"/>
          <p:cNvGraphicFramePr/>
          <p:nvPr/>
        </p:nvGraphicFramePr>
        <p:xfrm>
          <a:off x="762120" y="1676520"/>
          <a:ext cx="7696080" cy="3801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696080" cy="38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Text Box 5"/>
          <p:cNvSpPr/>
          <p:nvPr/>
        </p:nvSpPr>
        <p:spPr>
          <a:xfrm>
            <a:off x="914400" y="4114800"/>
            <a:ext cx="67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762120" y="68580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locity-Time Graph of the Student’s 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4"/>
          <p:cNvSpPr/>
          <p:nvPr/>
        </p:nvSpPr>
        <p:spPr>
          <a:xfrm>
            <a:off x="533520" y="3049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 distance traveled by the student is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762120" y="914400"/>
            <a:ext cx="3733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762120" y="1447920"/>
            <a:ext cx="6019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762120" y="2057400"/>
            <a:ext cx="73911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(3m/s)(30s) + (0m/s)(10s) + (2m/s)(10s) +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…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0m/s)(5s) + (1/2(4m/s)(10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762120" y="2895480"/>
            <a:ext cx="2743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130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533520" y="35053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 displacement by the student is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762120" y="4114800"/>
            <a:ext cx="5257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1"/>
          <p:cNvSpPr/>
          <p:nvPr/>
        </p:nvSpPr>
        <p:spPr>
          <a:xfrm>
            <a:off x="762120" y="4648320"/>
            <a:ext cx="6400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2"/>
          <p:cNvSpPr/>
          <p:nvPr/>
        </p:nvSpPr>
        <p:spPr>
          <a:xfrm>
            <a:off x="762120" y="5257800"/>
            <a:ext cx="73911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(3m/s)(30s) + (0m/s)(10s) + (-2m/s)(10s) +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…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0m/s)(5s) + (1/2(4m/s)(10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3"/>
          <p:cNvSpPr/>
          <p:nvPr/>
        </p:nvSpPr>
        <p:spPr>
          <a:xfrm>
            <a:off x="838080" y="6172200"/>
            <a:ext cx="335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90 m (Ea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9"/>
          <p:cNvSpPr/>
          <p:nvPr/>
        </p:nvSpPr>
        <p:spPr>
          <a:xfrm>
            <a:off x="6629400" y="38098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east  - w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4"/>
          <p:cNvSpPr/>
          <p:nvPr/>
        </p:nvSpPr>
        <p:spPr>
          <a:xfrm>
            <a:off x="990720" y="68580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erage velocity of the student is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1295280" y="137160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a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3962520" y="13716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+ 90m East / 65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1295280" y="198108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a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4 m/s 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Object 8"/>
          <p:cNvGraphicFramePr/>
          <p:nvPr/>
        </p:nvGraphicFramePr>
        <p:xfrm>
          <a:off x="1295280" y="2743200"/>
          <a:ext cx="6019920" cy="297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743200"/>
                    <a:ext cx="6019920" cy="29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Rectangle 9"/>
          <p:cNvSpPr/>
          <p:nvPr/>
        </p:nvSpPr>
        <p:spPr>
          <a:xfrm>
            <a:off x="1905120" y="3886200"/>
            <a:ext cx="22096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0"/>
          <p:cNvSpPr/>
          <p:nvPr/>
        </p:nvSpPr>
        <p:spPr>
          <a:xfrm>
            <a:off x="4876920" y="4495680"/>
            <a:ext cx="685800" cy="457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utoShape 11"/>
          <p:cNvSpPr/>
          <p:nvPr/>
        </p:nvSpPr>
        <p:spPr>
          <a:xfrm flipH="1">
            <a:off x="5942880" y="3657600"/>
            <a:ext cx="762120" cy="83808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12"/>
          <p:cNvSpPr/>
          <p:nvPr/>
        </p:nvSpPr>
        <p:spPr>
          <a:xfrm>
            <a:off x="2590920" y="40384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+ 90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4800600" y="45720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- 20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6019920" y="41148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+ 20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1447920" y="457200"/>
            <a:ext cx="64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Kinematics Equations that Make Sens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219320" y="1676520"/>
            <a:ext cx="2133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1219320" y="2209680"/>
            <a:ext cx="2819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(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/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5181480" y="2209680"/>
            <a:ext cx="2743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    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1219320" y="2743200"/>
            <a:ext cx="4190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(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(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v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) /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1219320" y="3276720"/>
            <a:ext cx="3352680" cy="44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+ 1/2 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av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1219320" y="4191120"/>
            <a:ext cx="2819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(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/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5181480" y="4191120"/>
            <a:ext cx="3429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 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 = (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) /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1219320" y="4724280"/>
            <a:ext cx="4190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(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/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/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3"/>
          <p:cNvSpPr/>
          <p:nvPr/>
        </p:nvSpPr>
        <p:spPr>
          <a:xfrm>
            <a:off x="1219320" y="5181480"/>
            <a:ext cx="3352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=  (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/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/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4"/>
          <p:cNvSpPr/>
          <p:nvPr/>
        </p:nvSpPr>
        <p:spPr>
          <a:xfrm>
            <a:off x="5029200" y="5257800"/>
            <a:ext cx="3352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…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=  (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) /2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5"/>
          <p:cNvSpPr/>
          <p:nvPr/>
        </p:nvSpPr>
        <p:spPr>
          <a:xfrm>
            <a:off x="1219320" y="57913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16"/>
          <p:cNvSpPr/>
          <p:nvPr/>
        </p:nvSpPr>
        <p:spPr>
          <a:xfrm>
            <a:off x="2286000" y="5867280"/>
            <a:ext cx="2209680" cy="44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2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av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7"/>
          <p:cNvSpPr/>
          <p:nvPr/>
        </p:nvSpPr>
        <p:spPr>
          <a:xfrm>
            <a:off x="5715000" y="3276720"/>
            <a:ext cx="2743200" cy="44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 =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+ 1/2 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av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18"/>
          <p:cNvSpPr/>
          <p:nvPr/>
        </p:nvSpPr>
        <p:spPr>
          <a:xfrm>
            <a:off x="4876920" y="32767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9"/>
          <p:cNvSpPr/>
          <p:nvPr/>
        </p:nvSpPr>
        <p:spPr>
          <a:xfrm>
            <a:off x="5257800" y="1676520"/>
            <a:ext cx="3124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a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(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/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143000" y="5335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ing 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838080" y="152388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lots of different ways to describe motion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914400" y="2666880"/>
            <a:ext cx="67816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t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elapsed photo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Expressions (Equa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cal 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1219320" y="22860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ee F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380880" y="838080"/>
            <a:ext cx="838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 fall describes the motion of an object which i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nl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under the influence of  gravity.  I.e. a ball thrown upwards or dropp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380880" y="2286000"/>
            <a:ext cx="830592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inematics equations can be used for solving free fall problems by replacing 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 the expressions with g where g i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.8 m/s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wnw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380880" y="1600200"/>
            <a:ext cx="838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object in free fall experiences a constant uniform acceleration of 9.8 m/s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 the downwards dir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1295280" y="2971800"/>
            <a:ext cx="1676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2971800" y="2971800"/>
            <a:ext cx="2743200" cy="4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 + 1/2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5638680" y="2971800"/>
            <a:ext cx="2210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2g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Oval 10"/>
          <p:cNvSpPr/>
          <p:nvPr/>
        </p:nvSpPr>
        <p:spPr>
          <a:xfrm>
            <a:off x="1600200" y="53341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1"/>
          <p:cNvSpPr/>
          <p:nvPr/>
        </p:nvSpPr>
        <p:spPr>
          <a:xfrm flipV="1">
            <a:off x="1676520" y="46479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2"/>
          <p:cNvSpPr/>
          <p:nvPr/>
        </p:nvSpPr>
        <p:spPr>
          <a:xfrm>
            <a:off x="1447920" y="4343400"/>
            <a:ext cx="13716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posi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3"/>
          <p:cNvSpPr/>
          <p:nvPr/>
        </p:nvSpPr>
        <p:spPr>
          <a:xfrm>
            <a:off x="990720" y="4648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4"/>
          <p:cNvSpPr/>
          <p:nvPr/>
        </p:nvSpPr>
        <p:spPr>
          <a:xfrm>
            <a:off x="838080" y="42670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5"/>
          <p:cNvSpPr/>
          <p:nvPr/>
        </p:nvSpPr>
        <p:spPr>
          <a:xfrm>
            <a:off x="838080" y="533412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6"/>
          <p:cNvSpPr/>
          <p:nvPr/>
        </p:nvSpPr>
        <p:spPr>
          <a:xfrm>
            <a:off x="2057400" y="4724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17"/>
          <p:cNvSpPr/>
          <p:nvPr/>
        </p:nvSpPr>
        <p:spPr>
          <a:xfrm>
            <a:off x="2133720" y="502920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 is nega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9"/>
          <p:cNvSpPr/>
          <p:nvPr/>
        </p:nvSpPr>
        <p:spPr>
          <a:xfrm>
            <a:off x="380880" y="5791320"/>
            <a:ext cx="3962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you define up as the positive direction, g must be negative because the velocity gets less positive over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20"/>
          <p:cNvSpPr/>
          <p:nvPr/>
        </p:nvSpPr>
        <p:spPr>
          <a:xfrm>
            <a:off x="5334120" y="42670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21"/>
          <p:cNvSpPr/>
          <p:nvPr/>
        </p:nvSpPr>
        <p:spPr>
          <a:xfrm>
            <a:off x="5181480" y="3886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22"/>
          <p:cNvSpPr/>
          <p:nvPr/>
        </p:nvSpPr>
        <p:spPr>
          <a:xfrm>
            <a:off x="5181480" y="525780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Oval 23"/>
          <p:cNvSpPr/>
          <p:nvPr/>
        </p:nvSpPr>
        <p:spPr>
          <a:xfrm>
            <a:off x="5943600" y="525780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25"/>
          <p:cNvSpPr/>
          <p:nvPr/>
        </p:nvSpPr>
        <p:spPr>
          <a:xfrm>
            <a:off x="5943600" y="4191120"/>
            <a:ext cx="1905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nega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26"/>
          <p:cNvSpPr/>
          <p:nvPr/>
        </p:nvSpPr>
        <p:spPr>
          <a:xfrm flipV="1">
            <a:off x="6019920" y="4495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27"/>
          <p:cNvSpPr/>
          <p:nvPr/>
        </p:nvSpPr>
        <p:spPr>
          <a:xfrm>
            <a:off x="6477120" y="4648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28"/>
          <p:cNvSpPr/>
          <p:nvPr/>
        </p:nvSpPr>
        <p:spPr>
          <a:xfrm>
            <a:off x="6629400" y="49528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 is posi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29"/>
          <p:cNvSpPr/>
          <p:nvPr/>
        </p:nvSpPr>
        <p:spPr>
          <a:xfrm>
            <a:off x="4724280" y="5791320"/>
            <a:ext cx="3962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you define up as the negative direction, g must be positive because the velocity gets less negative over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30"/>
          <p:cNvSpPr/>
          <p:nvPr/>
        </p:nvSpPr>
        <p:spPr>
          <a:xfrm>
            <a:off x="380880" y="3352680"/>
            <a:ext cx="8305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ir resistance limits the time of free fall.  Eventually a falling object will reach a constant velocity downwards known as its terminal velo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Freely Falling Bod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3" descr=""/>
          <p:cNvPicPr/>
          <p:nvPr/>
        </p:nvPicPr>
        <p:blipFill>
          <a:blip r:embed="rId1"/>
          <a:stretch/>
        </p:blipFill>
        <p:spPr>
          <a:xfrm>
            <a:off x="2286000" y="2666880"/>
            <a:ext cx="4014720" cy="376236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4"/>
          <p:cNvSpPr/>
          <p:nvPr/>
        </p:nvSpPr>
        <p:spPr>
          <a:xfrm>
            <a:off x="517680" y="573120"/>
            <a:ext cx="8367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xample 1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alling St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one is dropped from the top of a tall building.  After 3.0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free fall, what is the displacem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sto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Freely Falling Bod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609480" y="4648320"/>
          <a:ext cx="7696440" cy="1877760"/>
        </p:xfrm>
        <a:graphic>
          <a:graphicData uri="http://schemas.openxmlformats.org/drawingml/2006/table">
            <a:tbl>
              <a:tblPr/>
              <a:tblGrid>
                <a:gridCol w="1219320"/>
                <a:gridCol w="2514600"/>
                <a:gridCol w="1143000"/>
                <a:gridCol w="1371600"/>
                <a:gridCol w="1447920"/>
              </a:tblGrid>
              <a:tr h="90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r>
                        <a:rPr b="0" lang="en-US" sz="4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0" i="1" lang="en-US" sz="4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0" i="1" lang="en-US" sz="4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i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64" name="Picture 23" descr=""/>
          <p:cNvPicPr/>
          <p:nvPr/>
        </p:nvPicPr>
        <p:blipFill>
          <a:blip r:embed="rId1"/>
          <a:stretch/>
        </p:blipFill>
        <p:spPr>
          <a:xfrm>
            <a:off x="2590920" y="609480"/>
            <a:ext cx="4014720" cy="376236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24"/>
          <p:cNvSpPr/>
          <p:nvPr/>
        </p:nvSpPr>
        <p:spPr>
          <a:xfrm>
            <a:off x="1050840" y="3241800"/>
            <a:ext cx="54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26"/>
          <p:cNvSpPr/>
          <p:nvPr/>
        </p:nvSpPr>
        <p:spPr>
          <a:xfrm>
            <a:off x="990720" y="57150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27"/>
          <p:cNvSpPr/>
          <p:nvPr/>
        </p:nvSpPr>
        <p:spPr>
          <a:xfrm>
            <a:off x="2286000" y="57150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9.8 m/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28"/>
          <p:cNvSpPr/>
          <p:nvPr/>
        </p:nvSpPr>
        <p:spPr>
          <a:xfrm>
            <a:off x="5562720" y="57150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 m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29"/>
          <p:cNvSpPr/>
          <p:nvPr/>
        </p:nvSpPr>
        <p:spPr>
          <a:xfrm>
            <a:off x="6934320" y="57150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00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Freely Falling Bod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762120" y="914400"/>
          <a:ext cx="7696080" cy="1878120"/>
        </p:xfrm>
        <a:graphic>
          <a:graphicData uri="http://schemas.openxmlformats.org/drawingml/2006/table">
            <a:tbl>
              <a:tblPr/>
              <a:tblGrid>
                <a:gridCol w="1218960"/>
                <a:gridCol w="2514600"/>
                <a:gridCol w="1143000"/>
                <a:gridCol w="1371600"/>
                <a:gridCol w="144792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r>
                        <a:rPr b="0" lang="en-US" sz="4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0" i="1" lang="en-US" sz="4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0" i="1" lang="en-US" sz="4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i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9.80 m/s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m/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0 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2" name="Text Box 24"/>
          <p:cNvSpPr/>
          <p:nvPr/>
        </p:nvSpPr>
        <p:spPr>
          <a:xfrm>
            <a:off x="838080" y="3429000"/>
            <a:ext cx="3505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+ ½ g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25"/>
          <p:cNvSpPr/>
          <p:nvPr/>
        </p:nvSpPr>
        <p:spPr>
          <a:xfrm>
            <a:off x="1295280" y="403848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0 m/s)(3.00s) + ½ (-9.8 m/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(3.00s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26"/>
          <p:cNvSpPr/>
          <p:nvPr/>
        </p:nvSpPr>
        <p:spPr>
          <a:xfrm>
            <a:off x="1295280" y="47242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- 44.1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Freely Falling Bod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520920" y="573120"/>
            <a:ext cx="4871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xample 2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High Does it G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feree tosses the coin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an initial speed of 5.00m/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absence if air resistanc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high does the coin go ab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point of relea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Picture 4" descr=""/>
          <p:cNvPicPr/>
          <p:nvPr/>
        </p:nvPicPr>
        <p:blipFill>
          <a:blip r:embed="rId1"/>
          <a:stretch/>
        </p:blipFill>
        <p:spPr>
          <a:xfrm>
            <a:off x="5181480" y="1219320"/>
            <a:ext cx="351468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Freely Falling Bod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533520" y="4724280"/>
          <a:ext cx="7467480" cy="1878120"/>
        </p:xfrm>
        <a:graphic>
          <a:graphicData uri="http://schemas.openxmlformats.org/drawingml/2006/table">
            <a:tbl>
              <a:tblPr/>
              <a:tblGrid>
                <a:gridCol w="990360"/>
                <a:gridCol w="2210040"/>
                <a:gridCol w="1523880"/>
                <a:gridCol w="1828800"/>
                <a:gridCol w="91440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r>
                        <a:rPr b="0" lang="en-US" sz="4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0" i="1" lang="en-US" sz="4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0" i="1" lang="en-US" sz="4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i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80" name="Picture 23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2970360" cy="441972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24"/>
          <p:cNvSpPr/>
          <p:nvPr/>
        </p:nvSpPr>
        <p:spPr>
          <a:xfrm>
            <a:off x="838080" y="57150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25"/>
          <p:cNvSpPr/>
          <p:nvPr/>
        </p:nvSpPr>
        <p:spPr>
          <a:xfrm>
            <a:off x="1676520" y="571500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9.80 m/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26"/>
          <p:cNvSpPr/>
          <p:nvPr/>
        </p:nvSpPr>
        <p:spPr>
          <a:xfrm>
            <a:off x="3962520" y="57150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 m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27"/>
          <p:cNvSpPr/>
          <p:nvPr/>
        </p:nvSpPr>
        <p:spPr>
          <a:xfrm>
            <a:off x="5257800" y="57150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5.00 m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Freely Falling Bod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990720" y="685800"/>
          <a:ext cx="7086600" cy="1878120"/>
        </p:xfrm>
        <a:graphic>
          <a:graphicData uri="http://schemas.openxmlformats.org/drawingml/2006/table">
            <a:tbl>
              <a:tblPr/>
              <a:tblGrid>
                <a:gridCol w="990360"/>
                <a:gridCol w="2210040"/>
                <a:gridCol w="1523880"/>
                <a:gridCol w="1447920"/>
                <a:gridCol w="91440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r>
                        <a:rPr b="0" lang="en-US" sz="4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0" i="1" lang="en-US" sz="4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0" i="1" lang="en-US" sz="4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i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9.80 m/s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m/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5.00 m/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7" name="AutoShape 24"/>
          <p:cNvSpPr/>
          <p:nvPr/>
        </p:nvSpPr>
        <p:spPr>
          <a:xfrm>
            <a:off x="4267080" y="3429000"/>
            <a:ext cx="762120" cy="2286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8" name="Object 25"/>
          <p:cNvGraphicFramePr/>
          <p:nvPr/>
        </p:nvGraphicFramePr>
        <p:xfrm>
          <a:off x="5257800" y="2895480"/>
          <a:ext cx="3105000" cy="155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Object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2895480"/>
                    <a:ext cx="3105000" cy="15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Object 26"/>
          <p:cNvGraphicFramePr/>
          <p:nvPr/>
        </p:nvGraphicFramePr>
        <p:xfrm>
          <a:off x="304920" y="4267080"/>
          <a:ext cx="4935240" cy="150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1" name="Object 2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4267080"/>
                    <a:ext cx="4935240" cy="15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Text Box 30"/>
          <p:cNvSpPr/>
          <p:nvPr/>
        </p:nvSpPr>
        <p:spPr>
          <a:xfrm>
            <a:off x="228600" y="3200400"/>
            <a:ext cx="39625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2 g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31"/>
          <p:cNvSpPr/>
          <p:nvPr/>
        </p:nvSpPr>
        <p:spPr>
          <a:xfrm>
            <a:off x="5638680" y="464832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= 1.28 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447920" y="60948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inematics Equations that Make Sens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762120" y="1447920"/>
            <a:ext cx="7543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erage spe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      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d / change in  t                SI unit:  m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3352680" y="2057400"/>
            <a:ext cx="4648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d /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 =  d / 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762120" y="2666880"/>
            <a:ext cx="7924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erage velocity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∆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                           SI unit:  m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3276720" y="3276720"/>
            <a:ext cx="434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380880" y="4419720"/>
            <a:ext cx="8077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erage accelera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∆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                  SI unit:  m/s/s = m/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3200400" y="4952880"/>
            <a:ext cx="2133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3276720" y="3809880"/>
            <a:ext cx="1904760" cy="44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3276720" y="5486400"/>
            <a:ext cx="1904760" cy="44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609480" y="6095880"/>
            <a:ext cx="853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:  if the time intervals are very small we call these quantities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stan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Split Time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80880" y="1397160"/>
          <a:ext cx="7620120" cy="1803240"/>
        </p:xfrm>
        <a:graphic>
          <a:graphicData uri="http://schemas.openxmlformats.org/drawingml/2006/table">
            <a:tbl>
              <a:tblPr/>
              <a:tblGrid>
                <a:gridCol w="2438640"/>
                <a:gridCol w="1066680"/>
                <a:gridCol w="990720"/>
                <a:gridCol w="1066680"/>
                <a:gridCol w="990720"/>
                <a:gridCol w="1066680"/>
              </a:tblGrid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ition (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-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-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lit Time (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. Velocity (m/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Text Box 53"/>
          <p:cNvSpPr/>
          <p:nvPr/>
        </p:nvSpPr>
        <p:spPr>
          <a:xfrm>
            <a:off x="2895480" y="26668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4"/>
          <p:cNvSpPr/>
          <p:nvPr/>
        </p:nvSpPr>
        <p:spPr>
          <a:xfrm>
            <a:off x="4038480" y="26668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5"/>
          <p:cNvSpPr/>
          <p:nvPr/>
        </p:nvSpPr>
        <p:spPr>
          <a:xfrm>
            <a:off x="5029200" y="2666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6"/>
          <p:cNvSpPr/>
          <p:nvPr/>
        </p:nvSpPr>
        <p:spPr>
          <a:xfrm>
            <a:off x="6172200" y="2666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57"/>
          <p:cNvSpPr/>
          <p:nvPr/>
        </p:nvSpPr>
        <p:spPr>
          <a:xfrm>
            <a:off x="7086600" y="26668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2(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8"/>
          <p:cNvSpPr/>
          <p:nvPr/>
        </p:nvSpPr>
        <p:spPr>
          <a:xfrm>
            <a:off x="304920" y="342900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the average velocity for each distance inter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0"/>
          <p:cNvSpPr/>
          <p:nvPr/>
        </p:nvSpPr>
        <p:spPr>
          <a:xfrm>
            <a:off x="304920" y="396252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average velocity of the object over the time recor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1"/>
          <p:cNvSpPr/>
          <p:nvPr/>
        </p:nvSpPr>
        <p:spPr>
          <a:xfrm>
            <a:off x="304920" y="510552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the average acceleration over the time recor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2"/>
          <p:cNvSpPr/>
          <p:nvPr/>
        </p:nvSpPr>
        <p:spPr>
          <a:xfrm>
            <a:off x="380880" y="4419720"/>
            <a:ext cx="2210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3"/>
          <p:cNvSpPr/>
          <p:nvPr/>
        </p:nvSpPr>
        <p:spPr>
          <a:xfrm>
            <a:off x="2438280" y="4495680"/>
            <a:ext cx="2819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4"/>
          <p:cNvSpPr/>
          <p:nvPr/>
        </p:nvSpPr>
        <p:spPr>
          <a:xfrm>
            <a:off x="2511360" y="4400640"/>
            <a:ext cx="24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 25m - 0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.5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5"/>
          <p:cNvSpPr/>
          <p:nvPr/>
        </p:nvSpPr>
        <p:spPr>
          <a:xfrm>
            <a:off x="5104800" y="4419720"/>
            <a:ext cx="147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1.7 m 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66"/>
          <p:cNvSpPr/>
          <p:nvPr/>
        </p:nvSpPr>
        <p:spPr>
          <a:xfrm>
            <a:off x="457200" y="5562720"/>
            <a:ext cx="1828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67"/>
          <p:cNvSpPr/>
          <p:nvPr/>
        </p:nvSpPr>
        <p:spPr>
          <a:xfrm>
            <a:off x="2355480" y="5562720"/>
            <a:ext cx="364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 (1.25 m/s - 3.1m/s)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.5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8"/>
          <p:cNvSpPr/>
          <p:nvPr/>
        </p:nvSpPr>
        <p:spPr>
          <a:xfrm>
            <a:off x="6099120" y="5562720"/>
            <a:ext cx="185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0.13 m 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9"/>
          <p:cNvSpPr/>
          <p:nvPr/>
        </p:nvSpPr>
        <p:spPr>
          <a:xfrm>
            <a:off x="762120" y="601992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the a is negative becaus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v is negative!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0" presetSubtype="14169226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erence Fr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685800" y="137160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measurements are made relative to a frame of reference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685800" y="1981080"/>
            <a:ext cx="76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ting at your desk right now you don’t seem to be moving but you are infact revolving at 30 km/s (67,000 mi/h) around the su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685800" y="2895480"/>
            <a:ext cx="7696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arth also has a rotational speed about its axis. People on earth experience different tangential speeds depending on their latitude. The space shuttle at Kennedy Space Center is already traveling at 410 m/s (917 mi/h) before it even gets off the ground. A geosynchronous satellite that is in a stationary orbit over the earth is traveling at over 3080 m/s (6890 mi/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685800" y="5029200"/>
            <a:ext cx="7696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one moving south at 5 km/h on a train which itself is moving south at 80 km/h will be moving at 85 km/h relative to the earth. If the person had been moving north on the train their velocity would have been 75 km/h relative to the earth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1447920" y="45720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ing Kinematics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371600" y="137160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219320" y="1066680"/>
            <a:ext cx="708660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sig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 coordinate system – Define which directions are positive and negativ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down your known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show unknowns with a question mar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down the kinematic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ress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at will allow you to solve for one variable. All the others in your expression should be known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rran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f necessa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bstitu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umbers and units into your physical expr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l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e equation for your unknown and include the correct unit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your answ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 the magnitude of your answer make sens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the units come out righ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you use another expression to check your answer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3"/>
          <p:cNvSpPr/>
          <p:nvPr/>
        </p:nvSpPr>
        <p:spPr>
          <a:xfrm>
            <a:off x="595800" y="903240"/>
            <a:ext cx="73663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xample 1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ance Run by a Jog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far does a jogger run in 1.5 hours (5400 s) if h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peed is 2.22 m/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990720" y="274320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1371600" y="2971800"/>
            <a:ext cx="6629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= 5400s   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.22 m/s     d =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1447920" y="3657600"/>
            <a:ext cx="1600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d /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1371600" y="4419720"/>
            <a:ext cx="289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……     d =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343400" y="44197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 (2.22 m/s)(5400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1371600" y="52578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= 12000 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295280" y="58672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:  Units come out right (m) when multipl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3"/>
          <p:cNvSpPr/>
          <p:nvPr/>
        </p:nvSpPr>
        <p:spPr>
          <a:xfrm>
            <a:off x="365040" y="649440"/>
            <a:ext cx="816948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xample 2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orld’s Fastest Jet-Engine 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y Green in the ca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rustSS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t a world record of 341.1 m/s in 1997.  To establish such a record, the driver makes two runs through the course, one in each direction,to nullify wind effects.  From the data, determine the averagevelocity for each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4" descr="afg003"/>
          <p:cNvPicPr/>
          <p:nvPr/>
        </p:nvPicPr>
        <p:blipFill>
          <a:blip r:embed="rId1"/>
          <a:stretch/>
        </p:blipFill>
        <p:spPr>
          <a:xfrm>
            <a:off x="5257800" y="3276720"/>
            <a:ext cx="2860560" cy="32763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304920" y="3200400"/>
            <a:ext cx="457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= 4.740 s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+1609m 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380880" y="3657600"/>
            <a:ext cx="167652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2057400" y="36576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 (+1609m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(4.740 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380880" y="4191120"/>
            <a:ext cx="2438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 + 339.5 m/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304920" y="4952880"/>
            <a:ext cx="457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= 4.695 s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 -1609m 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380880" y="5410080"/>
            <a:ext cx="167652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2057400" y="54100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 (-1609m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(4.695 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380880" y="5943600"/>
            <a:ext cx="2438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 - 342.7 m/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9" descr="afg004"/>
          <p:cNvPicPr/>
          <p:nvPr/>
        </p:nvPicPr>
        <p:blipFill>
          <a:blip r:embed="rId1"/>
          <a:stretch/>
        </p:blipFill>
        <p:spPr>
          <a:xfrm>
            <a:off x="1143000" y="1905120"/>
            <a:ext cx="6172200" cy="15588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1"/>
          <p:cNvSpPr/>
          <p:nvPr/>
        </p:nvSpPr>
        <p:spPr>
          <a:xfrm>
            <a:off x="533520" y="45720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xample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leration and Increasing Velo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the average acceleration of the pla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609480" y="3809880"/>
            <a:ext cx="754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 km/h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60 km/h   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s   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9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26"/>
          <p:cNvSpPr/>
          <p:nvPr/>
        </p:nvSpPr>
        <p:spPr>
          <a:xfrm>
            <a:off x="762120" y="4495680"/>
            <a:ext cx="327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/ 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762120" y="5181480"/>
            <a:ext cx="563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+260 km/h – 0 km/h) / (29s – 0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762120" y="5867280"/>
            <a:ext cx="327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+ 9.0 km/h 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0T20:47:00Z</dcterms:created>
  <dc:creator>Instructional Software</dc:creator>
  <dc:description/>
  <dc:language>en-US</dc:language>
  <cp:lastModifiedBy>Quincy Jackson</cp:lastModifiedBy>
  <dcterms:modified xsi:type="dcterms:W3CDTF">2016-08-30T21:14:45Z</dcterms:modified>
  <cp:revision>40</cp:revision>
  <dc:subject/>
  <dc:title>PowerPoint Presentation</dc:title>
</cp:coreProperties>
</file>